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634F-9DBE-4399-8D94-029336E7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84B1-4504-45E5-9DAF-576953C1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5422-919D-4A00-96FB-BCB272AA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C119-B66F-4ED0-82AE-C48BC85DB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044E-D5A7-405A-A3E5-6CC0F432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44E5-D777-46D5-90B5-1200465B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3EA2-7D2B-4273-964B-395F49AC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BD31-87E8-4ECB-A841-22FA60F3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3B8D-C415-40E3-A05E-C6884C2C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BCFF-3429-41A5-858C-02C9371F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904B-F6A4-40FE-8DFF-DFEDAABB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581C-4E72-435F-8991-28BDC59F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F79D-4F1F-42F8-BE44-90FC292B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F387-BA1E-44F2-B948-2F5DA604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37C8-50CB-4E32-8731-4D8044E0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CBBA-ECCD-4E9F-BC63-4BB28093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F3D6-1742-4F57-8650-0FA81350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E42-DFEA-453E-9E22-D92742FC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50BF-E9E2-4AF2-85B0-AB6F0BF3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25F1-9B14-4910-A242-C91DAF4A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DB4C-A633-4EC3-A93A-44DD4718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F32C-6252-476B-83DA-95C6A4DD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589C-7B24-424E-80ED-99F78C29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355A-44DD-488E-915E-7BC82F22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288280" cy="3402000"/>
            <a:chOff x="0" y="0"/>
            <a:chExt cx="8288280" cy="3402000"/>
          </a:xfrm>
        </p:grpSpPr>
        <p:sp>
          <p:nvSpPr>
            <p:cNvPr id="1" name=""/>
            <p:cNvSpPr/>
            <p:nvPr/>
          </p:nvSpPr>
          <p:spPr>
            <a:xfrm>
              <a:off x="2724120" y="0"/>
              <a:ext cx="5564160" cy="2332080"/>
            </a:xfrm>
            <a:custGeom>
              <a:avLst/>
              <a:gdLst/>
              <a:ahLst/>
              <a:rect l="l" t="t" r="r" b="b"/>
              <a:pathLst>
                <a:path w="3505" h="1469">
                  <a:moveTo>
                    <a:pt x="420" y="932"/>
                  </a:moveTo>
                  <a:lnTo>
                    <a:pt x="390" y="969"/>
                  </a:lnTo>
                  <a:lnTo>
                    <a:pt x="360" y="1014"/>
                  </a:lnTo>
                  <a:lnTo>
                    <a:pt x="342" y="1056"/>
                  </a:lnTo>
                  <a:lnTo>
                    <a:pt x="336" y="1106"/>
                  </a:lnTo>
                  <a:lnTo>
                    <a:pt x="336" y="1155"/>
                  </a:lnTo>
                  <a:lnTo>
                    <a:pt x="348" y="1219"/>
                  </a:lnTo>
                  <a:lnTo>
                    <a:pt x="378" y="1263"/>
                  </a:lnTo>
                  <a:lnTo>
                    <a:pt x="420" y="1311"/>
                  </a:lnTo>
                  <a:lnTo>
                    <a:pt x="504" y="1388"/>
                  </a:lnTo>
                  <a:lnTo>
                    <a:pt x="582" y="1422"/>
                  </a:lnTo>
                  <a:lnTo>
                    <a:pt x="666" y="1445"/>
                  </a:lnTo>
                  <a:lnTo>
                    <a:pt x="735" y="1458"/>
                  </a:lnTo>
                  <a:lnTo>
                    <a:pt x="822" y="1466"/>
                  </a:lnTo>
                  <a:lnTo>
                    <a:pt x="918" y="1468"/>
                  </a:lnTo>
                  <a:lnTo>
                    <a:pt x="1029" y="1465"/>
                  </a:lnTo>
                  <a:lnTo>
                    <a:pt x="1116" y="1455"/>
                  </a:lnTo>
                  <a:lnTo>
                    <a:pt x="1215" y="1435"/>
                  </a:lnTo>
                  <a:lnTo>
                    <a:pt x="1308" y="1404"/>
                  </a:lnTo>
                  <a:lnTo>
                    <a:pt x="1395" y="1366"/>
                  </a:lnTo>
                  <a:lnTo>
                    <a:pt x="1500" y="1301"/>
                  </a:lnTo>
                  <a:lnTo>
                    <a:pt x="1560" y="1260"/>
                  </a:lnTo>
                  <a:lnTo>
                    <a:pt x="1620" y="1219"/>
                  </a:lnTo>
                  <a:lnTo>
                    <a:pt x="1680" y="1164"/>
                  </a:lnTo>
                  <a:lnTo>
                    <a:pt x="1728" y="1117"/>
                  </a:lnTo>
                  <a:lnTo>
                    <a:pt x="1770" y="1065"/>
                  </a:lnTo>
                  <a:lnTo>
                    <a:pt x="1821" y="1014"/>
                  </a:lnTo>
                  <a:lnTo>
                    <a:pt x="1875" y="972"/>
                  </a:lnTo>
                  <a:lnTo>
                    <a:pt x="1932" y="934"/>
                  </a:lnTo>
                  <a:lnTo>
                    <a:pt x="2004" y="894"/>
                  </a:lnTo>
                  <a:lnTo>
                    <a:pt x="2088" y="861"/>
                  </a:lnTo>
                  <a:lnTo>
                    <a:pt x="2181" y="834"/>
                  </a:lnTo>
                  <a:lnTo>
                    <a:pt x="2271" y="812"/>
                  </a:lnTo>
                  <a:lnTo>
                    <a:pt x="2358" y="795"/>
                  </a:lnTo>
                  <a:lnTo>
                    <a:pt x="2463" y="782"/>
                  </a:lnTo>
                  <a:lnTo>
                    <a:pt x="2568" y="780"/>
                  </a:lnTo>
                  <a:lnTo>
                    <a:pt x="2676" y="779"/>
                  </a:lnTo>
                  <a:lnTo>
                    <a:pt x="2952" y="789"/>
                  </a:lnTo>
                  <a:lnTo>
                    <a:pt x="3240" y="820"/>
                  </a:lnTo>
                  <a:lnTo>
                    <a:pt x="3504" y="871"/>
                  </a:lnTo>
                  <a:lnTo>
                    <a:pt x="2460" y="0"/>
                  </a:lnTo>
                  <a:lnTo>
                    <a:pt x="0" y="0"/>
                  </a:lnTo>
                  <a:lnTo>
                    <a:pt x="420" y="93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81320" y="1392120"/>
              <a:ext cx="1392120" cy="781200"/>
            </a:xfrm>
            <a:custGeom>
              <a:avLst/>
              <a:gdLst/>
              <a:ahLst/>
              <a:rect l="l" t="t" r="r" b="b"/>
              <a:pathLst>
                <a:path w="877" h="492">
                  <a:moveTo>
                    <a:pt x="876" y="159"/>
                  </a:moveTo>
                  <a:lnTo>
                    <a:pt x="864" y="197"/>
                  </a:lnTo>
                  <a:lnTo>
                    <a:pt x="843" y="221"/>
                  </a:lnTo>
                  <a:lnTo>
                    <a:pt x="804" y="237"/>
                  </a:lnTo>
                  <a:lnTo>
                    <a:pt x="759" y="248"/>
                  </a:lnTo>
                  <a:lnTo>
                    <a:pt x="696" y="253"/>
                  </a:lnTo>
                  <a:lnTo>
                    <a:pt x="612" y="251"/>
                  </a:lnTo>
                  <a:lnTo>
                    <a:pt x="513" y="248"/>
                  </a:lnTo>
                  <a:lnTo>
                    <a:pt x="435" y="253"/>
                  </a:lnTo>
                  <a:lnTo>
                    <a:pt x="369" y="260"/>
                  </a:lnTo>
                  <a:lnTo>
                    <a:pt x="318" y="272"/>
                  </a:lnTo>
                  <a:lnTo>
                    <a:pt x="275" y="283"/>
                  </a:lnTo>
                  <a:lnTo>
                    <a:pt x="234" y="305"/>
                  </a:lnTo>
                  <a:lnTo>
                    <a:pt x="207" y="327"/>
                  </a:lnTo>
                  <a:lnTo>
                    <a:pt x="180" y="366"/>
                  </a:lnTo>
                  <a:lnTo>
                    <a:pt x="171" y="401"/>
                  </a:lnTo>
                  <a:lnTo>
                    <a:pt x="174" y="437"/>
                  </a:lnTo>
                  <a:lnTo>
                    <a:pt x="191" y="491"/>
                  </a:lnTo>
                  <a:lnTo>
                    <a:pt x="135" y="440"/>
                  </a:lnTo>
                  <a:lnTo>
                    <a:pt x="93" y="394"/>
                  </a:lnTo>
                  <a:lnTo>
                    <a:pt x="60" y="350"/>
                  </a:lnTo>
                  <a:lnTo>
                    <a:pt x="29" y="288"/>
                  </a:lnTo>
                  <a:lnTo>
                    <a:pt x="15" y="236"/>
                  </a:lnTo>
                  <a:lnTo>
                    <a:pt x="2" y="179"/>
                  </a:lnTo>
                  <a:lnTo>
                    <a:pt x="0" y="125"/>
                  </a:lnTo>
                  <a:lnTo>
                    <a:pt x="3" y="80"/>
                  </a:lnTo>
                  <a:lnTo>
                    <a:pt x="43" y="65"/>
                  </a:lnTo>
                  <a:lnTo>
                    <a:pt x="109" y="48"/>
                  </a:lnTo>
                  <a:lnTo>
                    <a:pt x="189" y="30"/>
                  </a:lnTo>
                  <a:lnTo>
                    <a:pt x="276" y="12"/>
                  </a:lnTo>
                  <a:lnTo>
                    <a:pt x="363" y="0"/>
                  </a:lnTo>
                  <a:lnTo>
                    <a:pt x="462" y="0"/>
                  </a:lnTo>
                  <a:lnTo>
                    <a:pt x="549" y="5"/>
                  </a:lnTo>
                  <a:lnTo>
                    <a:pt x="642" y="20"/>
                  </a:lnTo>
                  <a:lnTo>
                    <a:pt x="717" y="38"/>
                  </a:lnTo>
                  <a:lnTo>
                    <a:pt x="759" y="54"/>
                  </a:lnTo>
                  <a:lnTo>
                    <a:pt x="807" y="86"/>
                  </a:lnTo>
                  <a:lnTo>
                    <a:pt x="846" y="125"/>
                  </a:lnTo>
                  <a:lnTo>
                    <a:pt x="876" y="159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4573440" cy="3402000"/>
            </a:xfrm>
            <a:custGeom>
              <a:avLst/>
              <a:gdLst/>
              <a:ahLst/>
              <a:rect l="l" t="t" r="r" b="b"/>
              <a:pathLst>
                <a:path w="2881" h="2143">
                  <a:moveTo>
                    <a:pt x="0" y="2142"/>
                  </a:moveTo>
                  <a:lnTo>
                    <a:pt x="81" y="2032"/>
                  </a:lnTo>
                  <a:lnTo>
                    <a:pt x="183" y="1928"/>
                  </a:lnTo>
                  <a:lnTo>
                    <a:pt x="276" y="1833"/>
                  </a:lnTo>
                  <a:lnTo>
                    <a:pt x="370" y="1736"/>
                  </a:lnTo>
                  <a:lnTo>
                    <a:pt x="468" y="1653"/>
                  </a:lnTo>
                  <a:lnTo>
                    <a:pt x="571" y="1572"/>
                  </a:lnTo>
                  <a:lnTo>
                    <a:pt x="712" y="1480"/>
                  </a:lnTo>
                  <a:lnTo>
                    <a:pt x="824" y="1410"/>
                  </a:lnTo>
                  <a:lnTo>
                    <a:pt x="1064" y="1285"/>
                  </a:lnTo>
                  <a:lnTo>
                    <a:pt x="1303" y="1182"/>
                  </a:lnTo>
                  <a:lnTo>
                    <a:pt x="1536" y="1103"/>
                  </a:lnTo>
                  <a:lnTo>
                    <a:pt x="1757" y="1029"/>
                  </a:lnTo>
                  <a:lnTo>
                    <a:pt x="2001" y="958"/>
                  </a:lnTo>
                  <a:lnTo>
                    <a:pt x="2097" y="930"/>
                  </a:lnTo>
                  <a:lnTo>
                    <a:pt x="2202" y="904"/>
                  </a:lnTo>
                  <a:lnTo>
                    <a:pt x="2289" y="884"/>
                  </a:lnTo>
                  <a:lnTo>
                    <a:pt x="2385" y="876"/>
                  </a:lnTo>
                  <a:lnTo>
                    <a:pt x="2469" y="873"/>
                  </a:lnTo>
                  <a:lnTo>
                    <a:pt x="2559" y="881"/>
                  </a:lnTo>
                  <a:lnTo>
                    <a:pt x="2634" y="893"/>
                  </a:lnTo>
                  <a:lnTo>
                    <a:pt x="2703" y="912"/>
                  </a:lnTo>
                  <a:lnTo>
                    <a:pt x="2769" y="939"/>
                  </a:lnTo>
                  <a:lnTo>
                    <a:pt x="2829" y="979"/>
                  </a:lnTo>
                  <a:lnTo>
                    <a:pt x="2880" y="1035"/>
                  </a:lnTo>
                  <a:lnTo>
                    <a:pt x="2877" y="981"/>
                  </a:lnTo>
                  <a:lnTo>
                    <a:pt x="2868" y="943"/>
                  </a:lnTo>
                  <a:lnTo>
                    <a:pt x="2847" y="894"/>
                  </a:lnTo>
                  <a:lnTo>
                    <a:pt x="2817" y="853"/>
                  </a:lnTo>
                  <a:lnTo>
                    <a:pt x="2781" y="816"/>
                  </a:lnTo>
                  <a:lnTo>
                    <a:pt x="2742" y="779"/>
                  </a:lnTo>
                  <a:lnTo>
                    <a:pt x="1884" y="0"/>
                  </a:lnTo>
                  <a:lnTo>
                    <a:pt x="0" y="0"/>
                  </a:lnTo>
                  <a:lnTo>
                    <a:pt x="0" y="214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0"/>
              <a:ext cx="4395960" cy="2868480"/>
              <a:chOff x="0" y="0"/>
              <a:chExt cx="4395960" cy="286848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0"/>
                <a:ext cx="3164040" cy="992160"/>
              </a:xfrm>
              <a:custGeom>
                <a:avLst/>
                <a:gdLst/>
                <a:ahLst/>
                <a:rect l="l" t="t" r="r" b="b"/>
                <a:pathLst>
                  <a:path w="1993" h="625">
                    <a:moveTo>
                      <a:pt x="0" y="402"/>
                    </a:moveTo>
                    <a:lnTo>
                      <a:pt x="108" y="351"/>
                    </a:lnTo>
                    <a:lnTo>
                      <a:pt x="225" y="298"/>
                    </a:lnTo>
                    <a:lnTo>
                      <a:pt x="367" y="237"/>
                    </a:lnTo>
                    <a:lnTo>
                      <a:pt x="494" y="190"/>
                    </a:lnTo>
                    <a:lnTo>
                      <a:pt x="637" y="144"/>
                    </a:lnTo>
                    <a:lnTo>
                      <a:pt x="765" y="108"/>
                    </a:lnTo>
                    <a:lnTo>
                      <a:pt x="931" y="68"/>
                    </a:lnTo>
                    <a:lnTo>
                      <a:pt x="1057" y="39"/>
                    </a:lnTo>
                    <a:lnTo>
                      <a:pt x="1162" y="21"/>
                    </a:lnTo>
                    <a:lnTo>
                      <a:pt x="1258" y="7"/>
                    </a:lnTo>
                    <a:lnTo>
                      <a:pt x="1390" y="3"/>
                    </a:lnTo>
                    <a:lnTo>
                      <a:pt x="1884" y="0"/>
                    </a:lnTo>
                    <a:lnTo>
                      <a:pt x="1992" y="96"/>
                    </a:lnTo>
                    <a:lnTo>
                      <a:pt x="1846" y="96"/>
                    </a:lnTo>
                    <a:lnTo>
                      <a:pt x="1707" y="102"/>
                    </a:lnTo>
                    <a:lnTo>
                      <a:pt x="1558" y="114"/>
                    </a:lnTo>
                    <a:lnTo>
                      <a:pt x="1437" y="129"/>
                    </a:lnTo>
                    <a:lnTo>
                      <a:pt x="1302" y="152"/>
                    </a:lnTo>
                    <a:lnTo>
                      <a:pt x="1187" y="174"/>
                    </a:lnTo>
                    <a:lnTo>
                      <a:pt x="1065" y="202"/>
                    </a:lnTo>
                    <a:lnTo>
                      <a:pt x="957" y="232"/>
                    </a:lnTo>
                    <a:lnTo>
                      <a:pt x="885" y="252"/>
                    </a:lnTo>
                    <a:lnTo>
                      <a:pt x="731" y="294"/>
                    </a:lnTo>
                    <a:lnTo>
                      <a:pt x="560" y="348"/>
                    </a:lnTo>
                    <a:lnTo>
                      <a:pt x="405" y="408"/>
                    </a:lnTo>
                    <a:lnTo>
                      <a:pt x="229" y="486"/>
                    </a:lnTo>
                    <a:lnTo>
                      <a:pt x="130" y="534"/>
                    </a:lnTo>
                    <a:lnTo>
                      <a:pt x="54" y="582"/>
                    </a:lnTo>
                    <a:lnTo>
                      <a:pt x="0" y="624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328680"/>
                <a:ext cx="3865680" cy="1782720"/>
              </a:xfrm>
              <a:custGeom>
                <a:avLst/>
                <a:gdLst/>
                <a:ahLst/>
                <a:rect l="l" t="t" r="r" b="b"/>
                <a:pathLst>
                  <a:path w="2435" h="1123">
                    <a:moveTo>
                      <a:pt x="0" y="627"/>
                    </a:moveTo>
                    <a:lnTo>
                      <a:pt x="123" y="540"/>
                    </a:lnTo>
                    <a:lnTo>
                      <a:pt x="267" y="447"/>
                    </a:lnTo>
                    <a:lnTo>
                      <a:pt x="400" y="381"/>
                    </a:lnTo>
                    <a:lnTo>
                      <a:pt x="555" y="315"/>
                    </a:lnTo>
                    <a:lnTo>
                      <a:pt x="709" y="255"/>
                    </a:lnTo>
                    <a:lnTo>
                      <a:pt x="885" y="201"/>
                    </a:lnTo>
                    <a:lnTo>
                      <a:pt x="1061" y="147"/>
                    </a:lnTo>
                    <a:lnTo>
                      <a:pt x="1232" y="105"/>
                    </a:lnTo>
                    <a:lnTo>
                      <a:pt x="1397" y="75"/>
                    </a:lnTo>
                    <a:lnTo>
                      <a:pt x="1552" y="45"/>
                    </a:lnTo>
                    <a:lnTo>
                      <a:pt x="1680" y="21"/>
                    </a:lnTo>
                    <a:lnTo>
                      <a:pt x="1829" y="3"/>
                    </a:lnTo>
                    <a:lnTo>
                      <a:pt x="1949" y="0"/>
                    </a:lnTo>
                    <a:lnTo>
                      <a:pt x="2059" y="1"/>
                    </a:lnTo>
                    <a:lnTo>
                      <a:pt x="2116" y="3"/>
                    </a:lnTo>
                    <a:lnTo>
                      <a:pt x="2434" y="293"/>
                    </a:lnTo>
                    <a:lnTo>
                      <a:pt x="2353" y="280"/>
                    </a:lnTo>
                    <a:lnTo>
                      <a:pt x="2250" y="273"/>
                    </a:lnTo>
                    <a:lnTo>
                      <a:pt x="2155" y="273"/>
                    </a:lnTo>
                    <a:lnTo>
                      <a:pt x="2039" y="282"/>
                    </a:lnTo>
                    <a:lnTo>
                      <a:pt x="1888" y="303"/>
                    </a:lnTo>
                    <a:lnTo>
                      <a:pt x="1792" y="319"/>
                    </a:lnTo>
                    <a:lnTo>
                      <a:pt x="1696" y="339"/>
                    </a:lnTo>
                    <a:lnTo>
                      <a:pt x="1477" y="387"/>
                    </a:lnTo>
                    <a:lnTo>
                      <a:pt x="1258" y="444"/>
                    </a:lnTo>
                    <a:lnTo>
                      <a:pt x="1093" y="498"/>
                    </a:lnTo>
                    <a:lnTo>
                      <a:pt x="937" y="546"/>
                    </a:lnTo>
                    <a:lnTo>
                      <a:pt x="763" y="621"/>
                    </a:lnTo>
                    <a:lnTo>
                      <a:pt x="576" y="705"/>
                    </a:lnTo>
                    <a:lnTo>
                      <a:pt x="411" y="795"/>
                    </a:lnTo>
                    <a:lnTo>
                      <a:pt x="299" y="862"/>
                    </a:lnTo>
                    <a:lnTo>
                      <a:pt x="200" y="934"/>
                    </a:lnTo>
                    <a:lnTo>
                      <a:pt x="115" y="1005"/>
                    </a:lnTo>
                    <a:lnTo>
                      <a:pt x="0" y="1122"/>
                    </a:lnTo>
                    <a:lnTo>
                      <a:pt x="0" y="627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952560"/>
                <a:ext cx="4395960" cy="1915920"/>
              </a:xfrm>
              <a:custGeom>
                <a:avLst/>
                <a:gdLst/>
                <a:ahLst/>
                <a:rect l="l" t="t" r="r" b="b"/>
                <a:pathLst>
                  <a:path w="2769" h="1207">
                    <a:moveTo>
                      <a:pt x="0" y="966"/>
                    </a:moveTo>
                    <a:lnTo>
                      <a:pt x="64" y="900"/>
                    </a:lnTo>
                    <a:lnTo>
                      <a:pt x="171" y="799"/>
                    </a:lnTo>
                    <a:lnTo>
                      <a:pt x="277" y="716"/>
                    </a:lnTo>
                    <a:lnTo>
                      <a:pt x="367" y="649"/>
                    </a:lnTo>
                    <a:lnTo>
                      <a:pt x="432" y="601"/>
                    </a:lnTo>
                    <a:lnTo>
                      <a:pt x="507" y="555"/>
                    </a:lnTo>
                    <a:lnTo>
                      <a:pt x="592" y="504"/>
                    </a:lnTo>
                    <a:lnTo>
                      <a:pt x="725" y="438"/>
                    </a:lnTo>
                    <a:lnTo>
                      <a:pt x="875" y="366"/>
                    </a:lnTo>
                    <a:lnTo>
                      <a:pt x="1056" y="294"/>
                    </a:lnTo>
                    <a:lnTo>
                      <a:pt x="1232" y="228"/>
                    </a:lnTo>
                    <a:lnTo>
                      <a:pt x="1392" y="180"/>
                    </a:lnTo>
                    <a:lnTo>
                      <a:pt x="1568" y="132"/>
                    </a:lnTo>
                    <a:lnTo>
                      <a:pt x="1738" y="90"/>
                    </a:lnTo>
                    <a:lnTo>
                      <a:pt x="1914" y="54"/>
                    </a:lnTo>
                    <a:lnTo>
                      <a:pt x="2090" y="27"/>
                    </a:lnTo>
                    <a:lnTo>
                      <a:pt x="2218" y="12"/>
                    </a:lnTo>
                    <a:lnTo>
                      <a:pt x="2353" y="1"/>
                    </a:lnTo>
                    <a:lnTo>
                      <a:pt x="2458" y="0"/>
                    </a:lnTo>
                    <a:lnTo>
                      <a:pt x="2554" y="7"/>
                    </a:lnTo>
                    <a:lnTo>
                      <a:pt x="2768" y="197"/>
                    </a:lnTo>
                    <a:lnTo>
                      <a:pt x="2677" y="150"/>
                    </a:lnTo>
                    <a:lnTo>
                      <a:pt x="2598" y="126"/>
                    </a:lnTo>
                    <a:lnTo>
                      <a:pt x="2515" y="118"/>
                    </a:lnTo>
                    <a:lnTo>
                      <a:pt x="2442" y="120"/>
                    </a:lnTo>
                    <a:lnTo>
                      <a:pt x="2362" y="124"/>
                    </a:lnTo>
                    <a:lnTo>
                      <a:pt x="2277" y="132"/>
                    </a:lnTo>
                    <a:lnTo>
                      <a:pt x="2175" y="147"/>
                    </a:lnTo>
                    <a:lnTo>
                      <a:pt x="2085" y="162"/>
                    </a:lnTo>
                    <a:lnTo>
                      <a:pt x="1877" y="204"/>
                    </a:lnTo>
                    <a:lnTo>
                      <a:pt x="1642" y="258"/>
                    </a:lnTo>
                    <a:lnTo>
                      <a:pt x="1477" y="306"/>
                    </a:lnTo>
                    <a:lnTo>
                      <a:pt x="1312" y="360"/>
                    </a:lnTo>
                    <a:lnTo>
                      <a:pt x="1120" y="432"/>
                    </a:lnTo>
                    <a:lnTo>
                      <a:pt x="939" y="510"/>
                    </a:lnTo>
                    <a:lnTo>
                      <a:pt x="752" y="600"/>
                    </a:lnTo>
                    <a:lnTo>
                      <a:pt x="658" y="654"/>
                    </a:lnTo>
                    <a:lnTo>
                      <a:pt x="571" y="708"/>
                    </a:lnTo>
                    <a:lnTo>
                      <a:pt x="421" y="810"/>
                    </a:lnTo>
                    <a:lnTo>
                      <a:pt x="309" y="906"/>
                    </a:lnTo>
                    <a:lnTo>
                      <a:pt x="203" y="1002"/>
                    </a:lnTo>
                    <a:lnTo>
                      <a:pt x="93" y="1107"/>
                    </a:lnTo>
                    <a:lnTo>
                      <a:pt x="0" y="1206"/>
                    </a:lnTo>
                    <a:lnTo>
                      <a:pt x="0" y="966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FE8C-9E62-4AC8-B9FE-3610AA7A45D5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4000" cy="4726080"/>
            <a:chOff x="0" y="0"/>
            <a:chExt cx="9144000" cy="4726080"/>
          </a:xfrm>
        </p:grpSpPr>
        <p:sp>
          <p:nvSpPr>
            <p:cNvPr id="50" name=""/>
            <p:cNvSpPr/>
            <p:nvPr/>
          </p:nvSpPr>
          <p:spPr>
            <a:xfrm>
              <a:off x="3164040" y="0"/>
              <a:ext cx="5979960" cy="3238560"/>
            </a:xfrm>
            <a:custGeom>
              <a:avLst/>
              <a:gdLst/>
              <a:ahLst/>
              <a:rect l="l" t="t" r="r" b="b"/>
              <a:pathLst>
                <a:path w="3767" h="2040">
                  <a:moveTo>
                    <a:pt x="487" y="1294"/>
                  </a:moveTo>
                  <a:lnTo>
                    <a:pt x="452" y="1345"/>
                  </a:lnTo>
                  <a:lnTo>
                    <a:pt x="418" y="1408"/>
                  </a:lnTo>
                  <a:lnTo>
                    <a:pt x="397" y="1466"/>
                  </a:lnTo>
                  <a:lnTo>
                    <a:pt x="390" y="1536"/>
                  </a:lnTo>
                  <a:lnTo>
                    <a:pt x="390" y="1604"/>
                  </a:lnTo>
                  <a:lnTo>
                    <a:pt x="404" y="1693"/>
                  </a:lnTo>
                  <a:lnTo>
                    <a:pt x="438" y="1754"/>
                  </a:lnTo>
                  <a:lnTo>
                    <a:pt x="487" y="1820"/>
                  </a:lnTo>
                  <a:lnTo>
                    <a:pt x="585" y="1927"/>
                  </a:lnTo>
                  <a:lnTo>
                    <a:pt x="675" y="1975"/>
                  </a:lnTo>
                  <a:lnTo>
                    <a:pt x="773" y="2007"/>
                  </a:lnTo>
                  <a:lnTo>
                    <a:pt x="853" y="2025"/>
                  </a:lnTo>
                  <a:lnTo>
                    <a:pt x="954" y="2036"/>
                  </a:lnTo>
                  <a:lnTo>
                    <a:pt x="1066" y="2039"/>
                  </a:lnTo>
                  <a:lnTo>
                    <a:pt x="1194" y="2034"/>
                  </a:lnTo>
                  <a:lnTo>
                    <a:pt x="1295" y="2020"/>
                  </a:lnTo>
                  <a:lnTo>
                    <a:pt x="1410" y="1993"/>
                  </a:lnTo>
                  <a:lnTo>
                    <a:pt x="1518" y="1950"/>
                  </a:lnTo>
                  <a:lnTo>
                    <a:pt x="1619" y="1897"/>
                  </a:lnTo>
                  <a:lnTo>
                    <a:pt x="1741" y="1807"/>
                  </a:lnTo>
                  <a:lnTo>
                    <a:pt x="1811" y="1750"/>
                  </a:lnTo>
                  <a:lnTo>
                    <a:pt x="1881" y="1693"/>
                  </a:lnTo>
                  <a:lnTo>
                    <a:pt x="1950" y="1616"/>
                  </a:lnTo>
                  <a:lnTo>
                    <a:pt x="2006" y="1551"/>
                  </a:lnTo>
                  <a:lnTo>
                    <a:pt x="2055" y="1479"/>
                  </a:lnTo>
                  <a:lnTo>
                    <a:pt x="2114" y="1408"/>
                  </a:lnTo>
                  <a:lnTo>
                    <a:pt x="2177" y="1350"/>
                  </a:lnTo>
                  <a:lnTo>
                    <a:pt x="2243" y="1297"/>
                  </a:lnTo>
                  <a:lnTo>
                    <a:pt x="2327" y="1241"/>
                  </a:lnTo>
                  <a:lnTo>
                    <a:pt x="2424" y="1195"/>
                  </a:lnTo>
                  <a:lnTo>
                    <a:pt x="2532" y="1158"/>
                  </a:lnTo>
                  <a:lnTo>
                    <a:pt x="2637" y="1127"/>
                  </a:lnTo>
                  <a:lnTo>
                    <a:pt x="2738" y="1104"/>
                  </a:lnTo>
                  <a:lnTo>
                    <a:pt x="2860" y="1086"/>
                  </a:lnTo>
                  <a:lnTo>
                    <a:pt x="2982" y="1083"/>
                  </a:lnTo>
                  <a:lnTo>
                    <a:pt x="3107" y="1082"/>
                  </a:lnTo>
                  <a:lnTo>
                    <a:pt x="3428" y="1095"/>
                  </a:lnTo>
                  <a:lnTo>
                    <a:pt x="3766" y="1151"/>
                  </a:lnTo>
                  <a:lnTo>
                    <a:pt x="3766" y="912"/>
                  </a:lnTo>
                  <a:lnTo>
                    <a:pt x="2856" y="0"/>
                  </a:lnTo>
                  <a:lnTo>
                    <a:pt x="0" y="0"/>
                  </a:lnTo>
                  <a:lnTo>
                    <a:pt x="487" y="1294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93960" y="1935000"/>
              <a:ext cx="1616400" cy="1084320"/>
            </a:xfrm>
            <a:custGeom>
              <a:avLst/>
              <a:gdLst/>
              <a:ahLst/>
              <a:rect l="l" t="t" r="r" b="b"/>
              <a:pathLst>
                <a:path w="1018" h="683">
                  <a:moveTo>
                    <a:pt x="1017" y="220"/>
                  </a:moveTo>
                  <a:lnTo>
                    <a:pt x="1003" y="273"/>
                  </a:lnTo>
                  <a:lnTo>
                    <a:pt x="978" y="306"/>
                  </a:lnTo>
                  <a:lnTo>
                    <a:pt x="933" y="329"/>
                  </a:lnTo>
                  <a:lnTo>
                    <a:pt x="881" y="344"/>
                  </a:lnTo>
                  <a:lnTo>
                    <a:pt x="808" y="351"/>
                  </a:lnTo>
                  <a:lnTo>
                    <a:pt x="710" y="348"/>
                  </a:lnTo>
                  <a:lnTo>
                    <a:pt x="595" y="344"/>
                  </a:lnTo>
                  <a:lnTo>
                    <a:pt x="505" y="351"/>
                  </a:lnTo>
                  <a:lnTo>
                    <a:pt x="428" y="361"/>
                  </a:lnTo>
                  <a:lnTo>
                    <a:pt x="369" y="377"/>
                  </a:lnTo>
                  <a:lnTo>
                    <a:pt x="319" y="393"/>
                  </a:lnTo>
                  <a:lnTo>
                    <a:pt x="271" y="423"/>
                  </a:lnTo>
                  <a:lnTo>
                    <a:pt x="240" y="454"/>
                  </a:lnTo>
                  <a:lnTo>
                    <a:pt x="208" y="508"/>
                  </a:lnTo>
                  <a:lnTo>
                    <a:pt x="198" y="556"/>
                  </a:lnTo>
                  <a:lnTo>
                    <a:pt x="202" y="606"/>
                  </a:lnTo>
                  <a:lnTo>
                    <a:pt x="221" y="682"/>
                  </a:lnTo>
                  <a:lnTo>
                    <a:pt x="156" y="611"/>
                  </a:lnTo>
                  <a:lnTo>
                    <a:pt x="107" y="547"/>
                  </a:lnTo>
                  <a:lnTo>
                    <a:pt x="69" y="486"/>
                  </a:lnTo>
                  <a:lnTo>
                    <a:pt x="33" y="400"/>
                  </a:lnTo>
                  <a:lnTo>
                    <a:pt x="17" y="327"/>
                  </a:lnTo>
                  <a:lnTo>
                    <a:pt x="2" y="248"/>
                  </a:lnTo>
                  <a:lnTo>
                    <a:pt x="0" y="173"/>
                  </a:lnTo>
                  <a:lnTo>
                    <a:pt x="3" y="111"/>
                  </a:lnTo>
                  <a:lnTo>
                    <a:pt x="49" y="90"/>
                  </a:lnTo>
                  <a:lnTo>
                    <a:pt x="126" y="66"/>
                  </a:lnTo>
                  <a:lnTo>
                    <a:pt x="219" y="41"/>
                  </a:lnTo>
                  <a:lnTo>
                    <a:pt x="320" y="16"/>
                  </a:lnTo>
                  <a:lnTo>
                    <a:pt x="421" y="0"/>
                  </a:lnTo>
                  <a:lnTo>
                    <a:pt x="536" y="0"/>
                  </a:lnTo>
                  <a:lnTo>
                    <a:pt x="637" y="6"/>
                  </a:lnTo>
                  <a:lnTo>
                    <a:pt x="745" y="27"/>
                  </a:lnTo>
                  <a:lnTo>
                    <a:pt x="832" y="52"/>
                  </a:lnTo>
                  <a:lnTo>
                    <a:pt x="881" y="75"/>
                  </a:lnTo>
                  <a:lnTo>
                    <a:pt x="936" y="119"/>
                  </a:lnTo>
                  <a:lnTo>
                    <a:pt x="982" y="173"/>
                  </a:lnTo>
                  <a:lnTo>
                    <a:pt x="1017" y="22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5310360" cy="4726080"/>
            </a:xfrm>
            <a:custGeom>
              <a:avLst/>
              <a:gdLst/>
              <a:ahLst/>
              <a:rect l="l" t="t" r="r" b="b"/>
              <a:pathLst>
                <a:path w="3345" h="2977">
                  <a:moveTo>
                    <a:pt x="0" y="2976"/>
                  </a:moveTo>
                  <a:lnTo>
                    <a:pt x="94" y="2823"/>
                  </a:lnTo>
                  <a:lnTo>
                    <a:pt x="212" y="2678"/>
                  </a:lnTo>
                  <a:lnTo>
                    <a:pt x="320" y="2546"/>
                  </a:lnTo>
                  <a:lnTo>
                    <a:pt x="429" y="2411"/>
                  </a:lnTo>
                  <a:lnTo>
                    <a:pt x="543" y="2296"/>
                  </a:lnTo>
                  <a:lnTo>
                    <a:pt x="662" y="2184"/>
                  </a:lnTo>
                  <a:lnTo>
                    <a:pt x="826" y="2056"/>
                  </a:lnTo>
                  <a:lnTo>
                    <a:pt x="956" y="1958"/>
                  </a:lnTo>
                  <a:lnTo>
                    <a:pt x="1235" y="1785"/>
                  </a:lnTo>
                  <a:lnTo>
                    <a:pt x="1512" y="1642"/>
                  </a:lnTo>
                  <a:lnTo>
                    <a:pt x="1783" y="1532"/>
                  </a:lnTo>
                  <a:lnTo>
                    <a:pt x="2040" y="1429"/>
                  </a:lnTo>
                  <a:lnTo>
                    <a:pt x="2323" y="1331"/>
                  </a:lnTo>
                  <a:lnTo>
                    <a:pt x="2434" y="1292"/>
                  </a:lnTo>
                  <a:lnTo>
                    <a:pt x="2556" y="1255"/>
                  </a:lnTo>
                  <a:lnTo>
                    <a:pt x="2657" y="1228"/>
                  </a:lnTo>
                  <a:lnTo>
                    <a:pt x="2769" y="1217"/>
                  </a:lnTo>
                  <a:lnTo>
                    <a:pt x="2866" y="1212"/>
                  </a:lnTo>
                  <a:lnTo>
                    <a:pt x="2971" y="1224"/>
                  </a:lnTo>
                  <a:lnTo>
                    <a:pt x="3058" y="1240"/>
                  </a:lnTo>
                  <a:lnTo>
                    <a:pt x="3138" y="1267"/>
                  </a:lnTo>
                  <a:lnTo>
                    <a:pt x="3215" y="1304"/>
                  </a:lnTo>
                  <a:lnTo>
                    <a:pt x="3284" y="1360"/>
                  </a:lnTo>
                  <a:lnTo>
                    <a:pt x="3344" y="1437"/>
                  </a:lnTo>
                  <a:lnTo>
                    <a:pt x="3340" y="1362"/>
                  </a:lnTo>
                  <a:lnTo>
                    <a:pt x="3330" y="1310"/>
                  </a:lnTo>
                  <a:lnTo>
                    <a:pt x="3305" y="1242"/>
                  </a:lnTo>
                  <a:lnTo>
                    <a:pt x="3270" y="1185"/>
                  </a:lnTo>
                  <a:lnTo>
                    <a:pt x="3229" y="1133"/>
                  </a:lnTo>
                  <a:lnTo>
                    <a:pt x="3183" y="1082"/>
                  </a:lnTo>
                  <a:lnTo>
                    <a:pt x="2187" y="0"/>
                  </a:lnTo>
                  <a:lnTo>
                    <a:pt x="0" y="0"/>
                  </a:lnTo>
                  <a:lnTo>
                    <a:pt x="0" y="2976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0"/>
              <a:ext cx="5105520" cy="3984480"/>
              <a:chOff x="0" y="0"/>
              <a:chExt cx="5105520" cy="3984480"/>
            </a:xfrm>
          </p:grpSpPr>
          <p:sp>
            <p:nvSpPr>
              <p:cNvPr id="54" name=""/>
              <p:cNvSpPr/>
              <p:nvPr/>
            </p:nvSpPr>
            <p:spPr>
              <a:xfrm>
                <a:off x="0" y="0"/>
                <a:ext cx="3675240" cy="1378080"/>
              </a:xfrm>
              <a:custGeom>
                <a:avLst/>
                <a:gdLst/>
                <a:ahLst/>
                <a:rect l="l" t="t" r="r" b="b"/>
                <a:pathLst>
                  <a:path w="2315" h="868">
                    <a:moveTo>
                      <a:pt x="0" y="558"/>
                    </a:moveTo>
                    <a:lnTo>
                      <a:pt x="125" y="487"/>
                    </a:lnTo>
                    <a:lnTo>
                      <a:pt x="261" y="414"/>
                    </a:lnTo>
                    <a:lnTo>
                      <a:pt x="426" y="329"/>
                    </a:lnTo>
                    <a:lnTo>
                      <a:pt x="573" y="263"/>
                    </a:lnTo>
                    <a:lnTo>
                      <a:pt x="739" y="200"/>
                    </a:lnTo>
                    <a:lnTo>
                      <a:pt x="888" y="150"/>
                    </a:lnTo>
                    <a:lnTo>
                      <a:pt x="1081" y="94"/>
                    </a:lnTo>
                    <a:lnTo>
                      <a:pt x="1227" y="54"/>
                    </a:lnTo>
                    <a:lnTo>
                      <a:pt x="1349" y="29"/>
                    </a:lnTo>
                    <a:lnTo>
                      <a:pt x="1461" y="9"/>
                    </a:lnTo>
                    <a:lnTo>
                      <a:pt x="1614" y="4"/>
                    </a:lnTo>
                    <a:lnTo>
                      <a:pt x="2188" y="0"/>
                    </a:lnTo>
                    <a:lnTo>
                      <a:pt x="2314" y="133"/>
                    </a:lnTo>
                    <a:lnTo>
                      <a:pt x="2144" y="133"/>
                    </a:lnTo>
                    <a:lnTo>
                      <a:pt x="1982" y="141"/>
                    </a:lnTo>
                    <a:lnTo>
                      <a:pt x="1809" y="158"/>
                    </a:lnTo>
                    <a:lnTo>
                      <a:pt x="1669" y="179"/>
                    </a:lnTo>
                    <a:lnTo>
                      <a:pt x="1512" y="211"/>
                    </a:lnTo>
                    <a:lnTo>
                      <a:pt x="1378" y="241"/>
                    </a:lnTo>
                    <a:lnTo>
                      <a:pt x="1237" y="280"/>
                    </a:lnTo>
                    <a:lnTo>
                      <a:pt x="1111" y="322"/>
                    </a:lnTo>
                    <a:lnTo>
                      <a:pt x="1028" y="350"/>
                    </a:lnTo>
                    <a:lnTo>
                      <a:pt x="849" y="408"/>
                    </a:lnTo>
                    <a:lnTo>
                      <a:pt x="650" y="483"/>
                    </a:lnTo>
                    <a:lnTo>
                      <a:pt x="470" y="566"/>
                    </a:lnTo>
                    <a:lnTo>
                      <a:pt x="266" y="675"/>
                    </a:lnTo>
                    <a:lnTo>
                      <a:pt x="151" y="741"/>
                    </a:lnTo>
                    <a:lnTo>
                      <a:pt x="62" y="808"/>
                    </a:lnTo>
                    <a:lnTo>
                      <a:pt x="0" y="867"/>
                    </a:lnTo>
                    <a:lnTo>
                      <a:pt x="0" y="558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455760"/>
                <a:ext cx="4487760" cy="2476440"/>
              </a:xfrm>
              <a:custGeom>
                <a:avLst/>
                <a:gdLst/>
                <a:ahLst/>
                <a:rect l="l" t="t" r="r" b="b"/>
                <a:pathLst>
                  <a:path w="2827" h="1560">
                    <a:moveTo>
                      <a:pt x="0" y="871"/>
                    </a:moveTo>
                    <a:lnTo>
                      <a:pt x="142" y="750"/>
                    </a:lnTo>
                    <a:lnTo>
                      <a:pt x="310" y="621"/>
                    </a:lnTo>
                    <a:lnTo>
                      <a:pt x="464" y="529"/>
                    </a:lnTo>
                    <a:lnTo>
                      <a:pt x="644" y="437"/>
                    </a:lnTo>
                    <a:lnTo>
                      <a:pt x="823" y="354"/>
                    </a:lnTo>
                    <a:lnTo>
                      <a:pt x="1027" y="279"/>
                    </a:lnTo>
                    <a:lnTo>
                      <a:pt x="1231" y="204"/>
                    </a:lnTo>
                    <a:lnTo>
                      <a:pt x="1430" y="145"/>
                    </a:lnTo>
                    <a:lnTo>
                      <a:pt x="1621" y="104"/>
                    </a:lnTo>
                    <a:lnTo>
                      <a:pt x="1801" y="62"/>
                    </a:lnTo>
                    <a:lnTo>
                      <a:pt x="1950" y="29"/>
                    </a:lnTo>
                    <a:lnTo>
                      <a:pt x="2123" y="4"/>
                    </a:lnTo>
                    <a:lnTo>
                      <a:pt x="2262" y="0"/>
                    </a:lnTo>
                    <a:lnTo>
                      <a:pt x="2390" y="1"/>
                    </a:lnTo>
                    <a:lnTo>
                      <a:pt x="2456" y="4"/>
                    </a:lnTo>
                    <a:lnTo>
                      <a:pt x="2826" y="407"/>
                    </a:lnTo>
                    <a:lnTo>
                      <a:pt x="2731" y="389"/>
                    </a:lnTo>
                    <a:lnTo>
                      <a:pt x="2612" y="379"/>
                    </a:lnTo>
                    <a:lnTo>
                      <a:pt x="2502" y="379"/>
                    </a:lnTo>
                    <a:lnTo>
                      <a:pt x="2367" y="391"/>
                    </a:lnTo>
                    <a:lnTo>
                      <a:pt x="2192" y="421"/>
                    </a:lnTo>
                    <a:lnTo>
                      <a:pt x="2080" y="443"/>
                    </a:lnTo>
                    <a:lnTo>
                      <a:pt x="1969" y="471"/>
                    </a:lnTo>
                    <a:lnTo>
                      <a:pt x="1714" y="537"/>
                    </a:lnTo>
                    <a:lnTo>
                      <a:pt x="1460" y="616"/>
                    </a:lnTo>
                    <a:lnTo>
                      <a:pt x="1269" y="691"/>
                    </a:lnTo>
                    <a:lnTo>
                      <a:pt x="1087" y="758"/>
                    </a:lnTo>
                    <a:lnTo>
                      <a:pt x="885" y="862"/>
                    </a:lnTo>
                    <a:lnTo>
                      <a:pt x="668" y="979"/>
                    </a:lnTo>
                    <a:lnTo>
                      <a:pt x="477" y="1104"/>
                    </a:lnTo>
                    <a:lnTo>
                      <a:pt x="347" y="1197"/>
                    </a:lnTo>
                    <a:lnTo>
                      <a:pt x="232" y="1297"/>
                    </a:lnTo>
                    <a:lnTo>
                      <a:pt x="133" y="1396"/>
                    </a:lnTo>
                    <a:lnTo>
                      <a:pt x="0" y="1559"/>
                    </a:lnTo>
                    <a:lnTo>
                      <a:pt x="0" y="871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1322280"/>
                <a:ext cx="5105520" cy="2662200"/>
              </a:xfrm>
              <a:custGeom>
                <a:avLst/>
                <a:gdLst/>
                <a:ahLst/>
                <a:rect l="l" t="t" r="r" b="b"/>
                <a:pathLst>
                  <a:path w="3216" h="1677">
                    <a:moveTo>
                      <a:pt x="0" y="1342"/>
                    </a:moveTo>
                    <a:lnTo>
                      <a:pt x="74" y="1250"/>
                    </a:lnTo>
                    <a:lnTo>
                      <a:pt x="198" y="1110"/>
                    </a:lnTo>
                    <a:lnTo>
                      <a:pt x="321" y="995"/>
                    </a:lnTo>
                    <a:lnTo>
                      <a:pt x="426" y="901"/>
                    </a:lnTo>
                    <a:lnTo>
                      <a:pt x="501" y="835"/>
                    </a:lnTo>
                    <a:lnTo>
                      <a:pt x="588" y="771"/>
                    </a:lnTo>
                    <a:lnTo>
                      <a:pt x="687" y="700"/>
                    </a:lnTo>
                    <a:lnTo>
                      <a:pt x="842" y="608"/>
                    </a:lnTo>
                    <a:lnTo>
                      <a:pt x="1016" y="508"/>
                    </a:lnTo>
                    <a:lnTo>
                      <a:pt x="1226" y="408"/>
                    </a:lnTo>
                    <a:lnTo>
                      <a:pt x="1430" y="316"/>
                    </a:lnTo>
                    <a:lnTo>
                      <a:pt x="1616" y="250"/>
                    </a:lnTo>
                    <a:lnTo>
                      <a:pt x="1821" y="183"/>
                    </a:lnTo>
                    <a:lnTo>
                      <a:pt x="2018" y="125"/>
                    </a:lnTo>
                    <a:lnTo>
                      <a:pt x="2223" y="75"/>
                    </a:lnTo>
                    <a:lnTo>
                      <a:pt x="2427" y="37"/>
                    </a:lnTo>
                    <a:lnTo>
                      <a:pt x="2576" y="16"/>
                    </a:lnTo>
                    <a:lnTo>
                      <a:pt x="2732" y="1"/>
                    </a:lnTo>
                    <a:lnTo>
                      <a:pt x="2854" y="0"/>
                    </a:lnTo>
                    <a:lnTo>
                      <a:pt x="2966" y="9"/>
                    </a:lnTo>
                    <a:lnTo>
                      <a:pt x="3215" y="273"/>
                    </a:lnTo>
                    <a:lnTo>
                      <a:pt x="3109" y="208"/>
                    </a:lnTo>
                    <a:lnTo>
                      <a:pt x="3017" y="175"/>
                    </a:lnTo>
                    <a:lnTo>
                      <a:pt x="2921" y="163"/>
                    </a:lnTo>
                    <a:lnTo>
                      <a:pt x="2836" y="166"/>
                    </a:lnTo>
                    <a:lnTo>
                      <a:pt x="2743" y="172"/>
                    </a:lnTo>
                    <a:lnTo>
                      <a:pt x="2644" y="183"/>
                    </a:lnTo>
                    <a:lnTo>
                      <a:pt x="2526" y="204"/>
                    </a:lnTo>
                    <a:lnTo>
                      <a:pt x="2421" y="225"/>
                    </a:lnTo>
                    <a:lnTo>
                      <a:pt x="2180" y="283"/>
                    </a:lnTo>
                    <a:lnTo>
                      <a:pt x="1907" y="358"/>
                    </a:lnTo>
                    <a:lnTo>
                      <a:pt x="1715" y="425"/>
                    </a:lnTo>
                    <a:lnTo>
                      <a:pt x="1523" y="500"/>
                    </a:lnTo>
                    <a:lnTo>
                      <a:pt x="1300" y="600"/>
                    </a:lnTo>
                    <a:lnTo>
                      <a:pt x="1090" y="708"/>
                    </a:lnTo>
                    <a:lnTo>
                      <a:pt x="873" y="833"/>
                    </a:lnTo>
                    <a:lnTo>
                      <a:pt x="764" y="908"/>
                    </a:lnTo>
                    <a:lnTo>
                      <a:pt x="663" y="983"/>
                    </a:lnTo>
                    <a:lnTo>
                      <a:pt x="488" y="1125"/>
                    </a:lnTo>
                    <a:lnTo>
                      <a:pt x="358" y="1259"/>
                    </a:lnTo>
                    <a:lnTo>
                      <a:pt x="235" y="1392"/>
                    </a:lnTo>
                    <a:lnTo>
                      <a:pt x="108" y="1538"/>
                    </a:lnTo>
                    <a:lnTo>
                      <a:pt x="0" y="1676"/>
                    </a:lnTo>
                    <a:lnTo>
                      <a:pt x="0" y="1342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CB00-59C6-4318-834E-59D9C405D135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Sir, We Would See Jesu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7720" y="3733560"/>
            <a:ext cx="7543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Quarter 9, Lesson 2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uke 1:57-80; Matt.1:18-25; Luke 2:1-38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ages 8-11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198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5562720" y="1371600"/>
            <a:ext cx="3314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Kingdom of Herod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Grea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7162920" cy="5434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286000" y="0"/>
            <a:ext cx="4362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ollow The Rout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914400"/>
            <a:ext cx="1905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hle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rusa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gy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zare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he Years of Preparation</a:t>
            </a:r>
            <a:br>
              <a:rPr sz="32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Luke 1:57-80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birth of John the Baptis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ohn would live as a Nazarit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ircumcised and named on the eight da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Zacharias then began to speak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s mission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prepare the people for the Lord’s coming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make the crooked ways straight, the rough ways smooth, Luke 3:4-5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Zacharias praised Jesus and his own so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amson and Samuel were also Nazarit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he Years of Preparation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Birth of Jesu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gel announces the birth of Jesus to Joseph (Matt.1:18-25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Place was Bethlehem –Micah 5:2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gels announce the birth of Jesus to Shepherds (Lk.2:8-20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he Years of Preparation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Birth of John the Baptist – Lk.1:57-80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The Birth of Jesu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ircumcision and naming of Jesus (Lk.2:21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esentation of Jesus at the Temple (Lk.2:22-24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imeon’s words about the baby – 25-35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na the Prophetess – 36-38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At The Templ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4800600" cy="3552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2:35:03Z</dcterms:created>
  <dc:creator> Tab Vines</dc:creator>
  <dc:description/>
  <dc:language>en-US</dc:language>
  <cp:lastModifiedBy>Frank D Vines</cp:lastModifiedBy>
  <dcterms:modified xsi:type="dcterms:W3CDTF">2006-04-10T00:39:53Z</dcterms:modified>
  <cp:revision>4</cp:revision>
  <dc:subject/>
  <dc:title>Sir, We Would See Jesus</dc:title>
</cp:coreProperties>
</file>